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0985-2EE8-4E79-9EE9-7207E61F2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DAB8-302C-4EA0-BA50-0A494431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B391-1F39-4860-A3FD-2532D0BD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23A4-C524-4E39-A9AC-40FC411D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162E-E386-4B33-BB00-7D5AFA48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C1A1-7EEB-40A5-AF88-1DF1A08A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FF2D-BF48-47A4-9B79-F70E4B49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25D0-E293-4FFD-B8C4-D2138636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E1D4-B7AD-42BB-A717-3D7D5D98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E7B6-69D8-4056-AB0B-BA800059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A280-DCF7-4F0B-BB16-73C1D8C8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97B2-8B3E-4C2A-AAE3-EBC021A0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7CC4-5146-406C-8935-68557DEDD1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267080" y="609480"/>
            <a:ext cx="441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Balanc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905120" y="358128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ven; not to much of one th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1523880" y="556272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 eat a balanced di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kcs user\Local Settings\Temporary Internet Files\Content.IE5\RBXFOIPH\MCj04175180000[1].wmf"/>
          <p:cNvPicPr/>
          <p:nvPr/>
        </p:nvPicPr>
        <p:blipFill>
          <a:blip r:embed="rId1"/>
          <a:stretch/>
        </p:blipFill>
        <p:spPr>
          <a:xfrm>
            <a:off x="457200" y="304920"/>
            <a:ext cx="350532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C:\Documents and Settings\kcs user\Local Settings\Temporary Internet Files\Content.IE5\N8X8NVIM\MCj01352110000[1].wmf"/>
          <p:cNvPicPr/>
          <p:nvPr/>
        </p:nvPicPr>
        <p:blipFill>
          <a:blip r:embed="rId1"/>
          <a:stretch/>
        </p:blipFill>
        <p:spPr>
          <a:xfrm>
            <a:off x="380880" y="0"/>
            <a:ext cx="2167200" cy="335268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3657600" y="53352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Excit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2971800" y="2209680"/>
            <a:ext cx="586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eat activity; confusion, commo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914400" y="42670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was a lot of excitement as the team one the ga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Documents and Settings\kcs user\Local Settings\Temporary Internet Files\Content.IE5\RWAYEZP7\MCj04280870000[1].wmf"/>
          <p:cNvPicPr/>
          <p:nvPr/>
        </p:nvPicPr>
        <p:blipFill>
          <a:blip r:embed="rId1"/>
          <a:stretch/>
        </p:blipFill>
        <p:spPr>
          <a:xfrm>
            <a:off x="380880" y="304920"/>
            <a:ext cx="2878200" cy="2209680"/>
          </a:xfrm>
          <a:prstGeom prst="rect">
            <a:avLst/>
          </a:prstGeom>
          <a:ln w="0">
            <a:noFill/>
          </a:ln>
        </p:spPr>
      </p:pic>
      <p:sp>
        <p:nvSpPr>
          <p:cNvPr id="82" name="TextBox 2"/>
          <p:cNvSpPr/>
          <p:nvPr/>
        </p:nvSpPr>
        <p:spPr>
          <a:xfrm>
            <a:off x="3809880" y="4572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Hung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1143000" y="281952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anting foo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990720" y="44956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 am so hungry I could eat a hor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:\Documents and Settings\kcs user\Local Settings\Temporary Internet Files\Content.IE5\N8X8NVIM\MCj03552130000[1].wmf"/>
          <p:cNvPicPr/>
          <p:nvPr/>
        </p:nvPicPr>
        <p:blipFill>
          <a:blip r:embed="rId1"/>
          <a:stretch/>
        </p:blipFill>
        <p:spPr>
          <a:xfrm>
            <a:off x="0" y="0"/>
            <a:ext cx="3505320" cy="350676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4952880" y="380880"/>
            <a:ext cx="365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Dai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191120" y="1600200"/>
            <a:ext cx="4190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oods made from milk or crea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380880" y="426708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 think cheese is my favorite dairy produc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C:\Documents and Settings\kcs user\Local Settings\Temporary Internet Files\Content.IE5\N8X8NVIM\MCj03981130000[1].wmf"/>
          <p:cNvPicPr/>
          <p:nvPr/>
        </p:nvPicPr>
        <p:blipFill>
          <a:blip r:embed="rId1"/>
          <a:stretch/>
        </p:blipFill>
        <p:spPr>
          <a:xfrm>
            <a:off x="457200" y="380880"/>
            <a:ext cx="2733840" cy="29718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4343400" y="609480"/>
            <a:ext cx="480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Di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533520" y="35812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usual food and drink of a pers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304920" y="487692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icole’s diet consist of peppers and cevich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kcs user\Local Settings\Temporary Internet Files\Content.IE5\RBXFOIPH\MCj03686280000[1].wmf"/>
          <p:cNvPicPr/>
          <p:nvPr/>
        </p:nvPicPr>
        <p:blipFill>
          <a:blip r:embed="rId1"/>
          <a:stretch/>
        </p:blipFill>
        <p:spPr>
          <a:xfrm>
            <a:off x="304920" y="457200"/>
            <a:ext cx="3322440" cy="251460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4038480" y="609480"/>
            <a:ext cx="40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Shopp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1676520" y="30481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person who buys thing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762120" y="42670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 am good at being a thrifty shopp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kcs user\Local Settings\Temporary Internet Files\Content.IE5\N8X8NVIM\MCj04121820000[1].wmf"/>
          <p:cNvPicPr/>
          <p:nvPr/>
        </p:nvPicPr>
        <p:blipFill>
          <a:blip r:embed="rId1"/>
          <a:stretch/>
        </p:blipFill>
        <p:spPr>
          <a:xfrm>
            <a:off x="0" y="0"/>
            <a:ext cx="3048120" cy="325584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3581280" y="6094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Shopp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3429000" y="2209680"/>
            <a:ext cx="541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Going to a store to buy th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1066680" y="396252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 love shopping for cloth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Documents and Settings\kcs user\Local Settings\Temporary Internet Files\Content.IE5\H6GMZ4FW\MCj02345140000[1].wmf"/>
          <p:cNvPicPr/>
          <p:nvPr/>
        </p:nvPicPr>
        <p:blipFill>
          <a:blip r:embed="rId1"/>
          <a:stretch/>
        </p:blipFill>
        <p:spPr>
          <a:xfrm>
            <a:off x="0" y="0"/>
            <a:ext cx="3508200" cy="3429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4191120" y="5335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Vegetab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3657600" y="2743200"/>
            <a:ext cx="5486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oots, leaves, stems, flowers of plants used as foo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380880" y="502920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rots and spinach are my favorite vegetab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kcs user\Local Settings\Temporary Internet Files\Content.IE5\V6ZS16U7\MCj02376540000[1].wmf"/>
          <p:cNvPicPr/>
          <p:nvPr/>
        </p:nvPicPr>
        <p:blipFill>
          <a:blip r:embed="rId1"/>
          <a:stretch/>
        </p:blipFill>
        <p:spPr>
          <a:xfrm>
            <a:off x="380880" y="0"/>
            <a:ext cx="2590920" cy="370692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3733920" y="60948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atsu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3200400" y="2209680"/>
            <a:ext cx="50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hick, red, spicy sauce made from tomatoes; ketch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1066680" y="46483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 put catsup on my fr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Documents and Settings\kcs user\Local Settings\Temporary Internet Files\Content.IE5\RBXFOIPH\MCj01127580000[1].wmf"/>
          <p:cNvPicPr/>
          <p:nvPr/>
        </p:nvPicPr>
        <p:blipFill>
          <a:blip r:embed="rId1"/>
          <a:stretch/>
        </p:blipFill>
        <p:spPr>
          <a:xfrm>
            <a:off x="457200" y="457200"/>
            <a:ext cx="2666880" cy="302436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4114800" y="60948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Rin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3352680" y="21337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hewy or crunchy outside layer of fruit, cheese or me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1143000" y="449568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drian peeled the rinds off of his ap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Documents and Settings\kcs user\Local Settings\Temporary Internet Files\Content.IE5\H6GMZ4FW\MCj04174360000[1].wmf"/>
          <p:cNvPicPr/>
          <p:nvPr/>
        </p:nvPicPr>
        <p:blipFill>
          <a:blip r:embed="rId1"/>
          <a:stretch/>
        </p:blipFill>
        <p:spPr>
          <a:xfrm>
            <a:off x="380880" y="0"/>
            <a:ext cx="2992680" cy="312408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3581280" y="609480"/>
            <a:ext cx="495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Down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3581280" y="2590920"/>
            <a:ext cx="487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aten or swallowed quick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1219320" y="419112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Jolie ate like a pig as she downed the piece of pi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22:07:33Z</dcterms:created>
  <dc:creator>kcs user</dc:creator>
  <dc:description/>
  <dc:language>en-US</dc:language>
  <cp:lastModifiedBy>Shady Brook</cp:lastModifiedBy>
  <dcterms:modified xsi:type="dcterms:W3CDTF">2008-09-09T17:50:36Z</dcterms:modified>
  <cp:revision>88</cp:revision>
  <dc:subject/>
  <dc:title>Slide 1</dc:title>
</cp:coreProperties>
</file>